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C8399-DDA9-4E69-BBCE-BE8C60E66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4A383-66FA-4B17-92D5-740A6204D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D8678-B8A8-4A6B-9599-C43F12E4C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5373F-CD8D-4407-AD5F-420DA6F7C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0A935-9BA0-4692-B64E-F7E92CFE5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BDC9C-2C6E-4404-BDF6-57DDDEA7F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291FC-2B3F-40C1-8289-B6B403C82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37A96-A8A3-4D3F-8405-564EF0B9A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3AEB4-64AE-42B7-8EF9-80E11D2B2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098E3-908B-4B77-8F04-C2A59A43B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D31E3-F003-4231-8567-A49487320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0A64A-C8C9-4560-852C-C6D967087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7BD4D-1F66-416F-801D-D5628F5CE5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eoMetry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Curt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vel 1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tang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066680" y="3352680"/>
            <a:ext cx="2895840" cy="1676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876920" y="4648320"/>
            <a:ext cx="274320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vel 2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quares &amp; Rectang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3124080"/>
            <a:ext cx="1295280" cy="1371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505320" y="4191120"/>
            <a:ext cx="28954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vel 3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ang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981080" y="3505320"/>
            <a:ext cx="1067040" cy="274320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267080" y="4114800"/>
            <a:ext cx="2743200" cy="2209680"/>
          </a:xfrm>
          <a:prstGeom prst="rtTriangl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vel 4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amon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3429000"/>
            <a:ext cx="2286000" cy="2438280"/>
          </a:xfrm>
          <a:prstGeom prst="diamond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257800" y="3657600"/>
            <a:ext cx="3886200" cy="1676520"/>
          </a:xfrm>
          <a:prstGeom prst="diamond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VERVIEW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 L1, you will climb through rectangular chambers in a steel rectang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L2, you will fight plasma and collect squares of diamonds in an all-out rectangle race to the finish line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L3, you will climb a boulder triangle and find a surprise on top! But be careful with it- its fragile! Then battle monsters and mayhem on your way to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4 is a rest although there are a lot of boulders! Gulp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y this thing! Its fu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2T23:29:49Z</dcterms:created>
  <dc:creator>Curtis Beavers</dc:creator>
  <dc:description/>
  <dc:language>en-US</dc:language>
  <cp:lastModifiedBy>Curtis Beavers</cp:lastModifiedBy>
  <dcterms:modified xsi:type="dcterms:W3CDTF">2002-04-22T23:37:21Z</dcterms:modified>
  <cp:revision>2</cp:revision>
  <dc:subject/>
  <dc:title>GeoMetry </dc:title>
</cp:coreProperties>
</file>