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A4E70-6B04-4C59-A044-6C7397AE9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1746B-509E-490B-8AB7-E7A485DC5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F359A-1BEC-49EA-80C1-4DA2A7C99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670C9-F2E3-440B-B7FE-750B9E2BC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0A3CD-0B21-4080-881F-3E8585BB5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97147-1F2F-4FF9-9426-6F88257FF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1B865-13FC-4449-AD50-17016D050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7553F-2E4A-456E-AAC4-DB0FFD9EB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7AB24-51B1-475E-BF65-FA45FB917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50F45-5758-433F-A108-107E736B1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89233-9384-4A67-86D3-1854CC344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7D85F-BCF6-4C01-8228-D9E272716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9549C-1788-4EBB-AE76-BE3A33190B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eoMetry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Curt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vel 1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tang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066680" y="3352680"/>
            <a:ext cx="2895840" cy="1676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876920" y="4648320"/>
            <a:ext cx="274320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vel 2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quares &amp; Rectang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3124080"/>
            <a:ext cx="1295280" cy="1371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505320" y="4191120"/>
            <a:ext cx="28954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vel 3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ang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981080" y="3505320"/>
            <a:ext cx="1067040" cy="274320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267080" y="4114800"/>
            <a:ext cx="2743200" cy="2209680"/>
          </a:xfrm>
          <a:prstGeom prst="rtTriangl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vel 4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amon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3429000"/>
            <a:ext cx="2286000" cy="2438280"/>
          </a:xfrm>
          <a:prstGeom prst="diamond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257800" y="3657600"/>
            <a:ext cx="3886200" cy="1676520"/>
          </a:xfrm>
          <a:prstGeom prst="diamond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VERVIEW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 L1, you will climb through rectangular chambers in a steel rectang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L2, you will fight plasma and collect squares of diamonds in an all-out rectangle race to the finish line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L3, you will climb a boulder triangle and find a surprise on top! But be careful with it- its fragile! Then battle monsters and mayhem on your way to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4 is a rest although there are a lot of boulders! Gulp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y this thing! Its fu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2T23:29:49Z</dcterms:created>
  <dc:creator>Curtis Beavers</dc:creator>
  <dc:description/>
  <dc:language>en-US</dc:language>
  <cp:lastModifiedBy>Curtis Beavers</cp:lastModifiedBy>
  <dcterms:modified xsi:type="dcterms:W3CDTF">2002-04-22T23:37:21Z</dcterms:modified>
  <cp:revision>2</cp:revision>
  <dc:subject/>
  <dc:title>GeoMetry </dc:title>
</cp:coreProperties>
</file>